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4EC-FC7C-4724-8EFB-80DD35B2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5DF-AA78-44FD-97FE-7B43988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4BBD0-6A98-441D-A55F-02F93FD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69B71-E409-4FEF-A2F8-18DADF5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127F-9F9D-429E-85F4-76F21AC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1B005-85F5-4F8B-90EA-B739A35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1757-EFCA-43F2-AD1C-8610288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60458-E3EE-4ADD-BC89-57DCCEE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02306-796E-4D05-8144-A48B105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A812E-C79E-4A37-A4FB-B7E9DE5E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E151-4C39-46D0-B229-4906B70D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52A5-FE91-43BE-8ED7-F6739933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D35-3A0E-49DD-A1F6-79D96645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D19A6-D2BD-4328-BEFD-1A43E68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76DB3-6F12-4E2B-83CC-28C4F1E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7D8B-C77A-41CA-B96C-A96A839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168F-7AD0-405E-97CE-EE49400A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DC1BE-228C-4EF1-8F5D-19A49C0B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C9DD3-7422-4B2A-8FD7-2998637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53F94-345D-49AF-AA64-E6503C9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2C941-F7F2-405D-B825-2004AD6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0B93E-8CDA-41B2-8350-34FC1FE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BEE77-22CC-40F8-A47F-328EAF9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EA4-8446-427C-90BF-198E50AD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232A3-232C-4853-AF8C-39C63D5E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C4658-4876-42DD-B147-7DA51943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6B221-DE5F-461D-968A-81DCE62B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37F04-219B-4AE7-827B-EF74154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820B0-8D53-4908-B5F6-84465079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0D33-EE49-4929-8E96-F1AE9A1B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BB827-D83A-48FB-9791-4977B8C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79FD-524F-4BA3-B675-B0A2CB6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9960-77EE-4270-86E2-01164F6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2337E-79C1-4A79-A88E-DBA9F39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F1F-B35D-44C2-8B35-FCE1C68D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7F86B-3BC8-40E5-AA3C-98B6FD8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F89F-A5EF-44AC-B7F1-92A7FA7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2B88C-ECC4-497E-B53B-6F144EDC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3058-408E-48B2-9184-E7FE030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07A0D-2420-46AB-B7DF-763C2D3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36D37-7D9E-44AD-8C4F-3938F05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F5B8C-789A-41AD-BC63-BBADF8A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23439-7423-41AB-9C47-32B47AF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01A39-E40B-448D-8267-13F7D49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71B48-D437-4E85-8B3A-493FDE7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B8B-A76C-402B-8039-F5EB2860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D4219-0C7F-4FD8-A774-4D5A36C8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A01FD-A8E3-43A8-B210-A3F67799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F86D7-AC3F-4D5C-92AF-0C85A97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2CC79-BFC6-4B24-B7FE-166512E8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20DEA-888F-4AAE-9DC8-6A15A79C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74928-DB7F-4B41-801A-06267066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39921-D838-48E4-BDAA-0CB2EA04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18D3B-E461-42C3-801D-A33B925B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57D3-4020-42F0-8E21-CB6A6B1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16A6F-5E1D-409A-93A8-445F3206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483-F34E-42AA-A4C5-2F07B86C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05CE2-7134-4B70-9099-F71CBB0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678FF-EFCE-4AEB-ACF4-D8EF582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0079F-9173-4ACE-AF2D-6D507BA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9D15C-664B-44A6-951C-14DCF56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43D25-9B41-4E88-A6D1-94C8927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D9E47-8B37-4348-A1BE-5BF2C287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4F8AB-1185-4B0D-9975-CE543A74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EC49C-F058-423D-8D8F-3DF03106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262CB-BC77-4402-8A63-C7EE7AE7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403BC-9F87-441D-9404-8F68F381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BF3A-79DD-4C5C-91ED-E217733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9E9F8-2313-4060-8069-786EF9B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79809-674E-4E9E-95B5-9443854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D3B35-74C0-414E-B96D-A730567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9B533-76DC-4C20-AB2B-2F3D60B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9CE49-4A3D-47AB-9086-95C376D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14EBE-4B60-46B1-951C-E9A72EF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A2CD6-40C7-4295-985D-86955BDA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14FC8-D867-4366-878E-3AEFBF28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C6DB6-9AF1-4F9A-9016-8CC49171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0201F-6E31-4B13-8F4F-E85B05D4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B4C4-563F-4877-B64E-DD466B4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38AC1-FDEE-4FE7-85FA-4104243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FC8C0-6FED-49A7-A8A0-BE445BE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2D515-7D4B-4A8B-99EE-5EA9493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088F5-68CF-4E0B-9A1A-54631BD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D3353-DF9E-469C-91D3-DB04CD2E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77699-8686-4C16-B758-BF49E39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28E54-D95B-4292-985D-672F799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D6B03-B242-497E-ABCD-B4949A4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2D183-C8DF-42E3-A012-5A07EE4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EF4B8-3FE1-4F21-AB18-37645786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5E8D-0230-4041-A2BA-D3CC4E7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C5B69-A25B-47E9-B4B2-6EFEBC44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EFD23-1A13-4455-AC47-BCB3F9C3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E0278-5174-4717-8E02-DECA8CE2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73DE6-DD10-4B1C-B3EC-66EE4E99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2CD6F-4D8E-4979-B6D7-ADC74EA1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5EDFB-88E0-4C6B-9948-7284263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FA8D3-A480-4BD7-B5E9-296AB41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27F26-EDE1-4A5B-9DB1-40E654D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BB929-B445-4ECD-8574-8A64EB7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D6FD8-1347-42C4-80D3-113CB3A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FA1-8A38-4633-A748-FA0BFA4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5873A-A641-4487-81CD-CBF2B7C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4ABB1-C737-4B66-8309-C83D9F27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B0079-F2F0-4693-9043-109B84F6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0D3C5-388F-49B3-A7C1-264B22D2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804E9-9902-4728-A4DB-8D66D07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A6964-77E9-487C-A95E-E671104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F235E-537B-46EA-BF31-9485DDBE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146E9-7E29-4D42-9AD6-E19E1B4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D5A60-02D0-4677-975F-67F2C4D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03935-AA22-40A2-8D57-7F2BBED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4A2-9D1E-46CA-B5C3-2DEEEAB2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565-AA5E-4054-9BD3-E0E1D61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3EDD6-4F04-4678-9A7D-E700921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88032-692B-48C9-BBD1-77023C5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C80D5-9794-4CCE-924E-851DF3D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B66A2-D2A8-4E48-B0C0-F37B7BB6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CD547-6BAB-4F5B-AE4B-FE79207D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0E1D5-28EB-4FDB-90C8-7E8E30B3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DED48-A7BE-415D-91AC-715F606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AB99C-90BA-4CBA-952F-5226F0C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86EA8-BBDB-4F7B-809F-A24744E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9870D-ED40-4687-ACF1-71FC45FD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B7C-2AC8-4BC1-9F61-1F13DA3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4BA0C-00CA-46DB-998C-649B0CA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C8D5B-370A-45D4-87EF-C64C3E9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76827-4BA2-44EF-8F34-994A95F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88281-ADD5-41F3-91D2-492A920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44B31-EACC-40BB-8BD5-DCB09D9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F5D6A-EF5E-4015-8818-52AF7B5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55F3D-EA32-45EE-8697-644BAF14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D96AD-09D1-498E-8A6F-2DBC9601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A075A-ABAD-4BF1-BB2B-D0CE448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43CB3-1F3D-4375-BDFD-4E9FE663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70F-4681-494B-9252-F4AAF73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B8D90-9BBB-43C7-8D07-AD1CB42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F52DD-E961-403F-9805-0D87FEF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8DD2B-4323-4884-BF27-495D9457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DFE23-7CC9-4B60-B54C-A308082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BE490-98A0-4527-A418-85C93B7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9D623-17E3-4CD4-AD77-163E20B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35C8B-7749-482E-8C53-C56D8E10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6733D-D548-4163-AB82-C24CE50E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3A68C-7B38-4CC9-9713-DDFEC88C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3ED58-1EF2-49EF-A0B7-57A0A7C3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DD5-7036-4AF5-B78F-6208DE87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78146-CDE8-4CA7-A5C2-B2D63488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8B2EB-A39E-4872-920A-4C5691F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7F22E-6385-41E3-9BDD-1493A71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46ED5-C37D-40B6-AC6E-4600625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D45DB-C085-4EA5-9DD3-1F622C0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6F73E-0BA1-4B5B-8902-3A44D23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FE1F2-6F1B-4AB9-A5DD-C919E60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E06B6-C58E-4FEA-AB80-39667972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418DD-6651-4812-ADF8-A2D3C84C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A76DE-E8A8-4653-AE25-E6A27A2F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B913-6D69-4A6A-A018-A5E19EFD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BB8C5-8137-4884-B967-CD4F5759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8D772-96D7-4490-B811-938B07AD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5149E-E02C-4341-8941-1D534539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D0D05-7998-4EA3-B8A3-5645E03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9896D-7BBA-49DE-945F-C5A49F6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64965-B49B-4DCF-8F63-8EBE3B4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EC21B-6BD3-4F73-8874-D65DAE5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D9CFA-C04E-49CE-B3A0-5DDBAAB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EF13D-1924-48AB-A9F0-060C495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C9246-FC54-4BAB-922B-BAB27D66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0143-BA42-4241-AA20-F3155FC0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B48B3-9E42-4185-AAEA-B17F14B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F206F-CC61-4FE5-985B-5A4E17C4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75654-2618-4FFC-B62C-B97A21F5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765D-66B3-4817-8448-6454FB3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C5D1-EA68-4CA2-B649-9324505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8C83-754E-4939-89E2-586015A0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5BB6-920D-4712-8FF5-8C57B62E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5C0-6127-4B0F-A126-FB658D4C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AF79-BA5A-4510-B30C-FEF57F5C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5D53-3862-4859-AE6E-0373B79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6D64-7EAC-4D01-93D9-35823D4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7271-E256-4D05-93D0-8673CF7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328F-3397-497C-A3C3-0101618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6DC3-3CDB-469E-8AAC-BA4AAD0C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9A8B-51AA-42B7-9B8A-BACF1B30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FC85-B23D-43B5-A880-437B4D95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2E4F-E13F-4F39-BADC-928C79D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2B84-D5CC-4D5F-BC91-BB72ED9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7F-F90D-4B22-BD24-862F73EA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DD3D-65B3-41C1-8373-3DD3F9D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8786-3D78-44A6-8418-3803DA6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EB5C-F4E7-4526-AC45-77CA9CF4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2480-7F73-4A5C-BEFF-D46CF21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F4F4-A53C-42C7-8E48-1135767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8A16-2218-4812-8CD4-CADFA15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CC77-AEF7-4764-8645-CA5E10E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19F0-AACB-42BE-87CE-804DFD9D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686C-EFBD-48F6-B43F-26D9BF61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54C0D-1A26-4DB9-99E0-575C2334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868-05BC-4A05-9027-1613274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E42A-5115-4DA2-8F7C-C07CAF4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C5355-32AC-4AFE-B40A-4955BA7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7675-BC9B-40A1-AC21-E7126EF9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9AFE-3E6A-41C5-B9FC-0691122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0F45-91B4-4625-8315-D3D7C6AD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36AF-0C4F-4520-8F95-D7A0CEF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EB62-65EE-47E4-9A0A-A20835A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1877-E24D-4068-A578-29F01D5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CEB0-69A6-4AED-BBF3-FB6D241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A1B0-6B60-4C7A-9578-20DAB530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B19-C7DA-492B-BC59-6BBC5C4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A070-994C-4D8A-9709-9D30CA09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B5A16-50DF-43D6-828D-2CEEB9F6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4575-E5F5-40A9-A521-A5A7814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F7DB-B420-448C-B293-080E9C9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F2A9A-AD13-4B54-8299-798A2C5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1ED5-55C7-486F-8CED-B2F4AD6D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AD99E-0F58-4049-9BF6-DF49648C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9D1E-5A4E-4891-9C4D-044CC55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6D32-E8DF-4FBF-9601-C1B3D0E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E190-EB4D-46E8-8D7A-E6A1128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91F-A222-495A-969E-ACDCB37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1E4F-D04A-4290-ADCB-2E8C3C2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6C45-3C66-42CE-ADBF-B97D7BDE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0392-E98D-40AD-94D8-3B6896CD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C1C3-5C45-4169-AB88-3862A233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1F4B3-B496-4865-AA38-6218836C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0D13-80E8-4890-AD9B-33B6D85F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381B-5D8F-4F6F-910B-81E1DC5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47B32-32C5-4C81-8ED1-08AA089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6DD5-02BE-41DA-801C-E695CFFD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DFA3-5C41-43B4-BD91-E9D525C6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79F-3FDB-48D9-854B-164D608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ACC5-2C7D-4D51-95E5-AEE480E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9A28-8350-4AB7-B9F1-4914E3B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A951-8017-450F-A002-DE372C0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1361-320B-443D-8E87-E89C0012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E4C27-C0B0-4E98-B8BC-3A028F81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E553-CDE6-42CF-9B4B-68FD7F10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3BE5E-F285-4A71-AC2C-DA74686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E542B-B54F-4355-81EB-D3B465B9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994D-B215-4AF3-80A5-694E7AC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D966-6FEC-48DE-B9FD-27E1565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A2A-6FBC-4E79-9A97-ABDFD84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AF97-7FF3-4598-B9C9-0D0D3656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8EABF-FD82-47A8-A90A-B234E0A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AAEA-E53F-47A9-8839-25A0FA1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85526-B271-49ED-8459-42906D8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271A-4FE3-4442-AF6E-5E43439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87931-1F6B-4706-88F6-09BFDAFF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C483-1D9F-437A-8168-78F8A6C8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5828A-B645-4566-8EA7-562B519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2E83F-B8C3-4254-9A6F-B6A21D2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5B39B-7049-41C2-93B2-9B15260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A84D-D971-49A7-8437-7D4891C3F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7300-E83C-4F70-ADFA-EC533F6259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3FB7-D917-485D-A6A2-F35453B8E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EFF2-70B6-472C-842F-1E7609734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991D-D316-4B2F-8DE9-DD6BC5191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30C-4E11-4D11-A5B7-221C79447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0BBB-1841-4AEE-9200-E3024A34C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B49F-911F-4261-B098-D288FD5FD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32A7-780B-49B0-8E45-264061267A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708-DE69-4CFA-9977-30C24C83D3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77F-C302-469A-BF1A-54ADA80F4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D31B-1828-42C5-9383-C70E338D4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8B3-A60D-4035-BAB5-2C3194852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FCE6-FC50-450C-AE5C-A5D38CE5A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709-7805-411A-89A9-04F5A6017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924-1B0E-497A-94CE-288E5A8DD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A88-D870-48DE-B6FA-34AEA7DE13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B4E-54A0-4381-AA84-F518D3ADB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6C1-A724-4808-A3DA-8E7C8CF7C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3A21-CED8-426A-AE79-31860B2F0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F78-E600-4279-8E35-FCA3F59B2D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F23-1F9C-4D4C-9ED9-00D8F1AFD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22F-2CF8-4483-A653-EBF34DA7B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AA8-CF59-4042-B51F-CA1847910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8000-2DE3-469C-9D13-409532E3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437-579B-499B-8DA4-FB57E220B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82E8-CDC4-4899-BAF9-C5BC878DA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172-948F-43A0-B551-A32370E89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227-B653-4F28-B543-E42A968C4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9F5-BC66-4572-9A19-02AA18C05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DCE-31D5-4904-9257-431A671A7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4935-9BAE-4AA2-BEDD-C01400940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500-8B20-47BD-830E-85FD9B67B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1FE-B342-4E36-8D40-A09864215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4FA1-F6AD-4105-8AE6-C5EFCE908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ED66-2737-4FE4-8FE3-99D1A1B9E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209-0FD8-41D0-9130-7F049D213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B95E-9F22-4BBD-841A-97E927F81A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C98-C752-4CB0-BC83-B52CB9C6C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4E2-80FF-4167-B61B-1999C8FF6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781600" cy="79056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3532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77825" descr=""/>
          <p:cNvPicPr/>
          <p:nvPr/>
        </p:nvPicPr>
        <p:blipFill>
          <a:blip r:embed="rId1"/>
          <a:stretch/>
        </p:blipFill>
        <p:spPr>
          <a:xfrm>
            <a:off x="414360" y="1719360"/>
            <a:ext cx="8315280" cy="341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395280" y="1743120"/>
            <a:ext cx="1800360" cy="428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2195640" y="1773360"/>
            <a:ext cx="4248000" cy="428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395280" y="2378160"/>
            <a:ext cx="3168720" cy="15555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5"/>
          <a:stretch/>
        </p:blipFill>
        <p:spPr>
          <a:xfrm>
            <a:off x="3564000" y="2909880"/>
            <a:ext cx="4103640" cy="428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6"/>
          <a:stretch/>
        </p:blipFill>
        <p:spPr>
          <a:xfrm>
            <a:off x="7783560" y="2924280"/>
            <a:ext cx="1109520" cy="428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7"/>
          <a:stretch/>
        </p:blipFill>
        <p:spPr>
          <a:xfrm>
            <a:off x="539640" y="4062240"/>
            <a:ext cx="3816360" cy="428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8"/>
          <a:stretch/>
        </p:blipFill>
        <p:spPr>
          <a:xfrm>
            <a:off x="4427640" y="4048200"/>
            <a:ext cx="4392360" cy="428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9"/>
          <a:stretch/>
        </p:blipFill>
        <p:spPr>
          <a:xfrm>
            <a:off x="453960" y="4638600"/>
            <a:ext cx="4103640" cy="428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10"/>
          <a:stretch/>
        </p:blipFill>
        <p:spPr>
          <a:xfrm>
            <a:off x="4572000" y="4610160"/>
            <a:ext cx="4248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71440" y="692280"/>
            <a:ext cx="8601120" cy="32670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60429" descr=""/>
          <p:cNvPicPr/>
          <p:nvPr/>
        </p:nvPicPr>
        <p:blipFill>
          <a:blip r:embed="rId2"/>
          <a:stretch/>
        </p:blipFill>
        <p:spPr>
          <a:xfrm>
            <a:off x="2987640" y="4076640"/>
            <a:ext cx="2657520" cy="2610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028000" y="2349360"/>
            <a:ext cx="576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252360" y="1125360"/>
            <a:ext cx="8639280" cy="16862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9411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4267440" cy="246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935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47680" y="1185840"/>
            <a:ext cx="8648640" cy="4486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684360" y="2909880"/>
            <a:ext cx="5111640" cy="428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25600" y="3443400"/>
            <a:ext cx="2160360" cy="428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2700360" y="3443400"/>
            <a:ext cx="3024000" cy="428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24000" y="4019400"/>
            <a:ext cx="1081080" cy="428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1476360" y="4019400"/>
            <a:ext cx="2808360" cy="428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4284720" y="4019400"/>
            <a:ext cx="1439640" cy="428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53960" y="4638600"/>
            <a:ext cx="3240000" cy="428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3708360" y="4595760"/>
            <a:ext cx="2016000" cy="428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468360" y="5172120"/>
            <a:ext cx="5256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581680" cy="46008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7353" descr=""/>
          <p:cNvPicPr/>
          <p:nvPr/>
        </p:nvPicPr>
        <p:blipFill>
          <a:blip r:embed="rId2"/>
          <a:stretch/>
        </p:blipFill>
        <p:spPr>
          <a:xfrm>
            <a:off x="557280" y="5141880"/>
            <a:ext cx="8191440" cy="1600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95280" y="5157720"/>
            <a:ext cx="8424720" cy="428760"/>
          </a:xfrm>
          <a:prstGeom prst="rect">
            <a:avLst/>
          </a:prstGeom>
          <a:ln w="0">
            <a:noFill/>
          </a:ln>
        </p:spPr>
      </p:pic>
      <p:grpSp>
        <p:nvGrpSpPr>
          <p:cNvPr id="1043" name="组合 57359"/>
          <p:cNvGrpSpPr/>
          <p:nvPr/>
        </p:nvGrpSpPr>
        <p:grpSpPr>
          <a:xfrm>
            <a:off x="3710160" y="2392200"/>
            <a:ext cx="2446200" cy="2476800"/>
            <a:chOff x="3710160" y="2392200"/>
            <a:chExt cx="2446200" cy="2476800"/>
          </a:xfrm>
        </p:grpSpPr>
        <p:pic>
          <p:nvPicPr>
            <p:cNvPr id="1044" name="图片 57355" descr=""/>
            <p:cNvPicPr/>
            <p:nvPr/>
          </p:nvPicPr>
          <p:blipFill>
            <a:blip r:embed="rId4"/>
            <a:stretch/>
          </p:blipFill>
          <p:spPr>
            <a:xfrm>
              <a:off x="3710160" y="2800440"/>
              <a:ext cx="215244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" descr=""/>
            <p:cNvPicPr/>
            <p:nvPr/>
          </p:nvPicPr>
          <p:blipFill>
            <a:blip r:embed="rId5"/>
            <a:stretch/>
          </p:blipFill>
          <p:spPr>
            <a:xfrm>
              <a:off x="4643280" y="2392200"/>
              <a:ext cx="5763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" descr=""/>
            <p:cNvPicPr/>
            <p:nvPr/>
          </p:nvPicPr>
          <p:blipFill>
            <a:blip r:embed="rId6"/>
            <a:stretch/>
          </p:blipFill>
          <p:spPr>
            <a:xfrm>
              <a:off x="4643280" y="4365720"/>
              <a:ext cx="5763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1" descr=""/>
            <p:cNvPicPr/>
            <p:nvPr/>
          </p:nvPicPr>
          <p:blipFill>
            <a:blip r:embed="rId7"/>
            <a:stretch/>
          </p:blipFill>
          <p:spPr>
            <a:xfrm>
              <a:off x="5580000" y="2997360"/>
              <a:ext cx="576360" cy="5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468360" y="5734080"/>
            <a:ext cx="8424720" cy="428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395280" y="6265800"/>
            <a:ext cx="8424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6324" descr=""/>
          <p:cNvPicPr/>
          <p:nvPr/>
        </p:nvPicPr>
        <p:blipFill>
          <a:blip r:embed="rId1"/>
          <a:stretch/>
        </p:blipFill>
        <p:spPr>
          <a:xfrm>
            <a:off x="266760" y="743040"/>
            <a:ext cx="8610480" cy="15336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6325" descr=""/>
          <p:cNvPicPr/>
          <p:nvPr/>
        </p:nvPicPr>
        <p:blipFill>
          <a:blip r:embed="rId2"/>
          <a:stretch/>
        </p:blipFill>
        <p:spPr>
          <a:xfrm>
            <a:off x="682560" y="2389320"/>
            <a:ext cx="8210520" cy="4352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4032360" cy="42840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56327" descr=""/>
          <p:cNvPicPr/>
          <p:nvPr/>
        </p:nvPicPr>
        <p:blipFill>
          <a:blip r:embed="rId4"/>
          <a:stretch/>
        </p:blipFill>
        <p:spPr>
          <a:xfrm>
            <a:off x="5767560" y="3971880"/>
            <a:ext cx="3066840" cy="2762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4572000" y="3990960"/>
            <a:ext cx="1008000" cy="428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2519640" cy="428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3132000" y="4551480"/>
            <a:ext cx="1944720" cy="428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5148360" y="4581360"/>
            <a:ext cx="576000" cy="428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9"/>
          <a:stretch/>
        </p:blipFill>
        <p:spPr>
          <a:xfrm>
            <a:off x="468360" y="5157720"/>
            <a:ext cx="5183280" cy="428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0"/>
          <a:stretch/>
        </p:blipFill>
        <p:spPr>
          <a:xfrm>
            <a:off x="395280" y="571968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1"/>
          <a:stretch/>
        </p:blipFill>
        <p:spPr>
          <a:xfrm>
            <a:off x="2050920" y="5719680"/>
            <a:ext cx="3529080" cy="428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2"/>
          <a:stretch/>
        </p:blipFill>
        <p:spPr>
          <a:xfrm>
            <a:off x="395280" y="6265800"/>
            <a:ext cx="4321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5300" descr=""/>
          <p:cNvPicPr/>
          <p:nvPr/>
        </p:nvPicPr>
        <p:blipFill>
          <a:blip r:embed="rId1"/>
          <a:stretch/>
        </p:blipFill>
        <p:spPr>
          <a:xfrm>
            <a:off x="1905120" y="1995480"/>
            <a:ext cx="5333760" cy="2867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835280" y="2046240"/>
            <a:ext cx="5976720" cy="519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763640" y="2651040"/>
            <a:ext cx="5977080" cy="1065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692360" y="3645000"/>
            <a:ext cx="5976720" cy="519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692360" y="4292640"/>
            <a:ext cx="59767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54276" descr=""/>
          <p:cNvPicPr/>
          <p:nvPr/>
        </p:nvPicPr>
        <p:blipFill>
          <a:blip r:embed="rId1"/>
          <a:stretch/>
        </p:blipFill>
        <p:spPr>
          <a:xfrm>
            <a:off x="476280" y="1152360"/>
            <a:ext cx="8191440" cy="4553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395280" y="1182600"/>
            <a:ext cx="7921800" cy="10368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468360" y="2319480"/>
            <a:ext cx="4824360" cy="428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5364000" y="2319480"/>
            <a:ext cx="2376720" cy="428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5"/>
          <a:stretch/>
        </p:blipFill>
        <p:spPr>
          <a:xfrm>
            <a:off x="324000" y="2938320"/>
            <a:ext cx="5976720" cy="777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6"/>
          <a:stretch/>
        </p:blipFill>
        <p:spPr>
          <a:xfrm>
            <a:off x="6357960" y="2924280"/>
            <a:ext cx="2535120" cy="7776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7"/>
          <a:stretch/>
        </p:blipFill>
        <p:spPr>
          <a:xfrm>
            <a:off x="466560" y="3933720"/>
            <a:ext cx="1152720" cy="7779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8"/>
          <a:stretch/>
        </p:blipFill>
        <p:spPr>
          <a:xfrm>
            <a:off x="1619280" y="3903840"/>
            <a:ext cx="2535120" cy="7776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9"/>
          <a:stretch/>
        </p:blipFill>
        <p:spPr>
          <a:xfrm>
            <a:off x="4211640" y="3903840"/>
            <a:ext cx="3024360" cy="777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0"/>
          <a:stretch/>
        </p:blipFill>
        <p:spPr>
          <a:xfrm>
            <a:off x="7308720" y="407664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1"/>
          <a:stretch/>
        </p:blipFill>
        <p:spPr>
          <a:xfrm>
            <a:off x="324000" y="4883040"/>
            <a:ext cx="30240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76802" descr=""/>
          <p:cNvPicPr/>
          <p:nvPr/>
        </p:nvPicPr>
        <p:blipFill>
          <a:blip r:embed="rId1"/>
          <a:stretch/>
        </p:blipFill>
        <p:spPr>
          <a:xfrm>
            <a:off x="243000" y="800280"/>
            <a:ext cx="8658000" cy="55814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684360" y="2506680"/>
            <a:ext cx="4895640" cy="4287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76804" descr=""/>
          <p:cNvPicPr/>
          <p:nvPr/>
        </p:nvPicPr>
        <p:blipFill>
          <a:blip r:embed="rId3"/>
          <a:stretch/>
        </p:blipFill>
        <p:spPr>
          <a:xfrm>
            <a:off x="5840280" y="2503440"/>
            <a:ext cx="3038760" cy="24764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539640" y="3083040"/>
            <a:ext cx="5327640" cy="428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466560" y="3645000"/>
            <a:ext cx="1584360" cy="428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2124000" y="3630600"/>
            <a:ext cx="367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468360" y="4206960"/>
            <a:ext cx="3311640" cy="428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944360" cy="428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9"/>
          <a:stretch/>
        </p:blipFill>
        <p:spPr>
          <a:xfrm>
            <a:off x="468360" y="479736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2376720" cy="428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1"/>
          <a:stretch/>
        </p:blipFill>
        <p:spPr>
          <a:xfrm>
            <a:off x="5292720" y="4767120"/>
            <a:ext cx="576360" cy="428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2"/>
          <a:stretch/>
        </p:blipFill>
        <p:spPr>
          <a:xfrm>
            <a:off x="324000" y="5373720"/>
            <a:ext cx="5472000" cy="428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3"/>
          <a:stretch/>
        </p:blipFill>
        <p:spPr>
          <a:xfrm>
            <a:off x="395280" y="5950080"/>
            <a:ext cx="1655640" cy="428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4"/>
          <a:stretch/>
        </p:blipFill>
        <p:spPr>
          <a:xfrm>
            <a:off x="2109960" y="5935680"/>
            <a:ext cx="5198760" cy="428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15"/>
          <a:stretch/>
        </p:blipFill>
        <p:spPr>
          <a:xfrm>
            <a:off x="7380360" y="5950080"/>
            <a:ext cx="1584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19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